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543-35AA-41C5-85EF-89C4696C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C03A-05F2-41E9-BFA2-FFC313D0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976-E973-4D57-A34B-EC5DC4C7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CC2-BCAD-49E6-A68D-11AA43DA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14D-F6AE-4E27-86FB-DE1BC4BA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336-30D5-4186-922D-FF2806B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2126-6A89-454E-AEAF-4167045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0192-E30B-4579-B5BF-14787D8F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BC01-64C9-4B72-B6D0-23425F66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882F-1DCA-4F38-9A7D-C7329F05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55E-BD5F-46DD-BF83-080999A4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4C5-98E3-46AD-9F5A-5B8A4B0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E0FE-A2B6-4917-8DEB-D7F4001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44E-EB2E-4BD7-8487-D6ECEC9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FF71-0B46-43EE-A429-3068943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E64F-4651-4FDA-99BA-E3754DD6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FAB0-30DD-45DC-A2BA-70417FBD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10A-CDEC-4733-B088-839AF3C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E83-E4E1-4F4C-80F5-2769B73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056D-6709-44BE-98FD-D403CDB2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803-17F9-4F6D-9B9E-1366D468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14F5-27D6-4BA0-B482-DFAE54E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03B-45F9-484F-B564-230EE71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3C2-0E08-4485-A270-D8DE844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AA88-AD5B-4326-9C88-8BCB7AD65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56f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d2b6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181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9cff7c"/>
                </a:gs>
                <a:gs pos="100000">
                  <a:srgbClr val="47753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477539"/>
                </a:gs>
                <a:gs pos="100000">
                  <a:srgbClr val="9cff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B6DE-CCCF-468F-B435-E8BA4A7B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asketball Vocabulary</a:t>
            </a:r>
            <a:br>
              <a:rPr sz="4400"/>
            </a:br>
            <a:r>
              <a:rPr b="0" lang="en-US" sz="1800" spc="-1" strike="noStrike">
                <a:solidFill>
                  <a:srgbClr val="181848"/>
                </a:solidFill>
                <a:latin typeface="Times New Roman"/>
              </a:rPr>
              <a:t>Introducing vocabulary idea, from Mentoring Minds</a:t>
            </a:r>
            <a:endParaRPr b="0" lang="en-US" sz="18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 out a free throw while spelling and saying the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ff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1848"/>
                </a:solidFill>
                <a:latin typeface="Times New Roman"/>
              </a:rPr>
              <a:t>Basketball Vocabulary</a:t>
            </a:r>
            <a:endParaRPr b="0" lang="en-US" sz="4400" spc="-1" strike="noStrike">
              <a:solidFill>
                <a:srgbClr val="18184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new vocabulary word up for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say the word a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pretend to dribble a basketball while saying each of the letters out lo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letters are done students throw an imaginary free throw as they say the word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5:34:16Z</dcterms:created>
  <dc:creator>Ann Weeks</dc:creator>
  <dc:description/>
  <dc:language>en-US</dc:language>
  <cp:lastModifiedBy>Ann Weeks</cp:lastModifiedBy>
  <dcterms:modified xsi:type="dcterms:W3CDTF">2008-06-29T15:41:42Z</dcterms:modified>
  <cp:revision>3</cp:revision>
  <dc:subject/>
  <dc:title>Basket Ball Vocabulary Introducing vocabulary idea, from Mentoring Minds</dc:title>
</cp:coreProperties>
</file>